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0865-75C1-4F1E-9AFA-8771A1EA7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5DB1-81D1-4AA6-8CCD-431FDE942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687A-8B3D-4C9F-B355-624656A52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679A-D2F1-486A-89BD-EAD81766C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750A-40E6-4453-B9D6-906F2A90E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4947-9CC4-4A23-BBE6-E2EEB3441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66A3-94AD-45A6-871F-51274ACE2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724B-B17D-4B8C-B1D7-4DAF7E4F2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53DF-68E6-4BAC-8299-ECE8E84F3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CFB5-6FED-4C5F-AFA8-B6145583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F9EA-3487-497B-9E12-74A569F1D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0455-D8FD-4D19-8485-5DD4AEA3D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85B6-F11F-420F-9E89-3DF2A5EDC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FB1-3074-4033-B976-40B9E0DF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99F-DF24-4E48-9394-D62873E7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16F-EA2B-44EC-8B69-35434E8B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A16-6CC4-4DF8-89A4-1EBA2E7D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8AD5-B577-4D64-A534-23672B1E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B1DB-5E99-4778-B1BE-55135948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346F-B028-4104-8A94-E98F86B7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4BD9-E7B3-4C79-82E1-2BEDAD05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E1A5-BA91-4CAB-826B-0AF8755B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48F9-F651-41BF-8F42-28B8A791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CAE0-A741-48D8-9681-3B13DAD8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6DE-EF97-4068-AA3D-06938E00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176F-37A3-4F4E-90BE-FBE89E1B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46D7-CFA1-432F-879E-422A56BE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B96E-7334-42D0-9A6C-87D2D5FB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25B4-B59E-44D6-A065-8A9C1F60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D0FF-FCD2-4205-9B85-1843F31A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B218-7677-42EF-9AF6-354443B9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E44DB-ECBE-4625-9725-0739E6C3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C817-4400-4C20-89E3-8228223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208C-3DAE-4012-A83B-8536C14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849B-EE1A-45E5-AEBA-001DA9EA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876-4DE0-407F-97CB-45B13F4C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AC25-F7A5-45A0-8B7F-CAF99591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4112-32CD-4A76-BCCD-53F053B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DFE6-D91F-4A84-A433-369C368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5829-3A12-4228-8A68-E539841C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9B87-E7EB-42E3-9FE3-51B4C0D3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9027-335B-4DF1-9DC6-DF098A6B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9AAC-C347-4FD9-AD8D-9F168215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BDDB-01FD-4FCF-9323-87C092C0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CC51-C486-44BD-8D5E-9F981286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F760-F97E-4C00-B143-04AEE412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D8B-4E54-461F-91C0-767016C5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7616-991A-45F5-A2A4-8E31BA48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9656-F41C-4FD6-872D-C25D6E25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0A29-12F9-492F-9C22-9900FA14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208A-F678-413E-B6C5-A35A8B54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2BF2B-E657-44BE-A7DD-28B7F525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11805-27C1-43B7-BDD9-D5868DB2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1A52-ED8A-4E64-980A-43C248A6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158F-6BD2-43B7-BED7-3B3E1847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49C89-2F02-4BFB-8CD0-D93F55EF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586-A7EB-4921-BF41-6253B231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B75-A35A-47DB-A28F-AD3A86A7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02C-D956-4B3E-98A6-37F9EDAC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951-7D14-41D7-8E1C-F62C5BDC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BBE-2E80-410D-A43A-92300001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A767-9E1D-478A-A200-783BC29F5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3186-2104-466B-833D-FE39370E9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12DB-4AB5-4D92-889F-345BA174D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9316-A868-4925-8B93-D9FD6B172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358128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urlz MT"/>
              </a:rPr>
              <a:t>Arithmetic  Sequences (Recursive Formulas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Arithmetic Sequence (Recursive) Formul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TextBox 2"/>
          <p:cNvGrpSpPr/>
          <p:nvPr/>
        </p:nvGrpSpPr>
        <p:grpSpPr>
          <a:xfrm>
            <a:off x="566640" y="1560600"/>
            <a:ext cx="7864560" cy="4906800"/>
            <a:chOff x="566640" y="1560600"/>
            <a:chExt cx="7864560" cy="4906800"/>
          </a:xfrm>
        </p:grpSpPr>
        <p:pic>
          <p:nvPicPr>
            <p:cNvPr id="226" name="TextBox 2" descr=""/>
            <p:cNvPicPr/>
            <p:nvPr/>
          </p:nvPicPr>
          <p:blipFill>
            <a:blip r:embed="rId1"/>
            <a:stretch/>
          </p:blipFill>
          <p:spPr>
            <a:xfrm>
              <a:off x="566640" y="1560600"/>
              <a:ext cx="786456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09480" y="1600200"/>
              <a:ext cx="7772400" cy="47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n =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+ (n – 1) d    where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n = 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th term (the one you are looking fo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 term in se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n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=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term numb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d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  common diffe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Box 3"/>
          <p:cNvSpPr/>
          <p:nvPr/>
        </p:nvSpPr>
        <p:spPr>
          <a:xfrm>
            <a:off x="455760" y="5616720"/>
            <a:ext cx="8076960" cy="94716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find terms deep into a sequence (you must have a sequence identified with a common dif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Find the 9th term of the arithmetic sequenc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7, 11, 15, 19, ..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TextBox 2"/>
          <p:cNvGrpSpPr/>
          <p:nvPr/>
        </p:nvGrpSpPr>
        <p:grpSpPr>
          <a:xfrm>
            <a:off x="554040" y="1609560"/>
            <a:ext cx="7864560" cy="5229360"/>
            <a:chOff x="554040" y="1609560"/>
            <a:chExt cx="7864560" cy="5229360"/>
          </a:xfrm>
        </p:grpSpPr>
        <p:pic>
          <p:nvPicPr>
            <p:cNvPr id="231" name="TextBox 2" descr=""/>
            <p:cNvPicPr/>
            <p:nvPr/>
          </p:nvPicPr>
          <p:blipFill>
            <a:blip r:embed="rId1"/>
            <a:stretch/>
          </p:blipFill>
          <p:spPr>
            <a:xfrm>
              <a:off x="554040" y="1609560"/>
              <a:ext cx="786456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8320" y="1650960"/>
              <a:ext cx="7772400" cy="50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the common difference, d: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+4    +4    +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7,   11,   15,    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d =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n: n is the term you are looking for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n =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(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term in sequence)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a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₁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=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a₁ +  (n – 1)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9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7  +  (9 – 1) 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7  +  (8) 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7  +  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Find the 12th term in the arithmetic sequenc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12, 17, 22, 27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TextBox 2"/>
          <p:cNvGrpSpPr/>
          <p:nvPr/>
        </p:nvGrpSpPr>
        <p:grpSpPr>
          <a:xfrm>
            <a:off x="554040" y="1609560"/>
            <a:ext cx="7864560" cy="5229360"/>
            <a:chOff x="554040" y="1609560"/>
            <a:chExt cx="7864560" cy="5229360"/>
          </a:xfrm>
        </p:grpSpPr>
        <p:pic>
          <p:nvPicPr>
            <p:cNvPr id="235" name="TextBox 2" descr=""/>
            <p:cNvPicPr/>
            <p:nvPr/>
          </p:nvPicPr>
          <p:blipFill>
            <a:blip r:embed="rId1"/>
            <a:stretch/>
          </p:blipFill>
          <p:spPr>
            <a:xfrm>
              <a:off x="554040" y="1609560"/>
              <a:ext cx="786456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98320" y="1650960"/>
              <a:ext cx="7772400" cy="50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the common difference, d: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+5    +5     +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12,   17,    22,    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d =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n: n is the term you are looking for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n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(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term in sequence)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a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₁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 = a₁ +  (n – 1)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12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12  +  (12 – 1) 5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12  +  (11) 5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12  +  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Write an equation for the </a:t>
            </a: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nth term of the sequence; 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urlz MT"/>
              </a:rPr>
              <a:t>-8,  1,  10,  19 …</a:t>
            </a:r>
            <a:br>
              <a:rPr sz="28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if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TextBox 2"/>
          <p:cNvGrpSpPr/>
          <p:nvPr/>
        </p:nvGrpSpPr>
        <p:grpSpPr>
          <a:xfrm>
            <a:off x="554040" y="1609560"/>
            <a:ext cx="7864560" cy="4951080"/>
            <a:chOff x="554040" y="1609560"/>
            <a:chExt cx="7864560" cy="4951080"/>
          </a:xfrm>
        </p:grpSpPr>
        <p:pic>
          <p:nvPicPr>
            <p:cNvPr id="239" name="TextBox 2" descr=""/>
            <p:cNvPicPr/>
            <p:nvPr/>
          </p:nvPicPr>
          <p:blipFill>
            <a:blip r:embed="rId1"/>
            <a:stretch/>
          </p:blipFill>
          <p:spPr>
            <a:xfrm>
              <a:off x="554040" y="1609560"/>
              <a:ext cx="786456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98320" y="1650960"/>
              <a:ext cx="7772400" cy="49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the common difference, d: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 Black"/>
                </a:rPr>
                <a:t>+9   +9    +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-8,    1,   10,   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d =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Find 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(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Black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term in sequence), so…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a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₁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= -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Now…substitute and simplify the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 = a₁ +  (n – 1)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n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-8  +  (n – 1) 9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use the distributive property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 -8  +  9n - 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=  9n - 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urlz MT"/>
              </a:rPr>
              <a:t>Vocabulary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TextBox 2"/>
          <p:cNvGrpSpPr/>
          <p:nvPr/>
        </p:nvGrpSpPr>
        <p:grpSpPr>
          <a:xfrm>
            <a:off x="566640" y="1725480"/>
            <a:ext cx="7864560" cy="4888080"/>
            <a:chOff x="566640" y="1725480"/>
            <a:chExt cx="7864560" cy="4888080"/>
          </a:xfrm>
        </p:grpSpPr>
        <p:pic>
          <p:nvPicPr>
            <p:cNvPr id="174" name="TextBox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864560" cy="48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08040" y="1766880"/>
              <a:ext cx="7773840" cy="47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quence – a set of numbers in a specific ord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erms – the numbers in the sequenc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rithmetic sequence – a numerical pattern that increases or decreases at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stant ra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mon difference – the difference between the term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an arithmetic sequence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TextBox 2"/>
          <p:cNvGrpSpPr/>
          <p:nvPr/>
        </p:nvGrpSpPr>
        <p:grpSpPr>
          <a:xfrm>
            <a:off x="566640" y="1633680"/>
            <a:ext cx="7864560" cy="3262320"/>
            <a:chOff x="566640" y="1633680"/>
            <a:chExt cx="7864560" cy="3262320"/>
          </a:xfrm>
        </p:grpSpPr>
        <p:pic>
          <p:nvPicPr>
            <p:cNvPr id="178" name="TextBox 2" descr=""/>
            <p:cNvPicPr/>
            <p:nvPr/>
          </p:nvPicPr>
          <p:blipFill>
            <a:blip r:embed="rId2"/>
            <a:stretch/>
          </p:blipFill>
          <p:spPr>
            <a:xfrm>
              <a:off x="566640" y="1633680"/>
              <a:ext cx="7864560" cy="32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09480" y="1676520"/>
              <a:ext cx="77724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A sequence in which each term is found by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Adding or Subtracting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 Black"/>
                </a:rPr>
                <a:t> the same number to the previous ter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3"/>
          <p:cNvSpPr/>
          <p:nvPr/>
        </p:nvSpPr>
        <p:spPr>
          <a:xfrm>
            <a:off x="493560" y="5029200"/>
            <a:ext cx="8077320" cy="143460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,     8,    12 ,   16,    20………….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9223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444348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0178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32497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the common differ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TextBox 2"/>
          <p:cNvGrpSpPr/>
          <p:nvPr/>
        </p:nvGrpSpPr>
        <p:grpSpPr>
          <a:xfrm>
            <a:off x="719280" y="1633680"/>
            <a:ext cx="7486560" cy="3504960"/>
            <a:chOff x="719280" y="1633680"/>
            <a:chExt cx="7486560" cy="3504960"/>
          </a:xfrm>
        </p:grpSpPr>
        <p:pic>
          <p:nvPicPr>
            <p:cNvPr id="187" name="TextBox 2" descr=""/>
            <p:cNvPicPr/>
            <p:nvPr/>
          </p:nvPicPr>
          <p:blipFill>
            <a:blip r:embed="rId2"/>
            <a:stretch/>
          </p:blipFill>
          <p:spPr>
            <a:xfrm>
              <a:off x="719280" y="1633680"/>
              <a:ext cx="748656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62120" y="1676520"/>
              <a:ext cx="7391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The difference between each number.  This determines what is added to or subtracted from each previous number to obtain the next number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3"/>
          <p:cNvSpPr/>
          <p:nvPr/>
        </p:nvSpPr>
        <p:spPr>
          <a:xfrm>
            <a:off x="609480" y="5219640"/>
            <a:ext cx="8001000" cy="143460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, 8, 12, 16, 20……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is the common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Is this an arithmetic sequ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TextBox 2"/>
          <p:cNvGrpSpPr/>
          <p:nvPr/>
        </p:nvGrpSpPr>
        <p:grpSpPr>
          <a:xfrm>
            <a:off x="646200" y="2475000"/>
            <a:ext cx="7711920" cy="920520"/>
            <a:chOff x="646200" y="2475000"/>
            <a:chExt cx="7711920" cy="920520"/>
          </a:xfrm>
        </p:grpSpPr>
        <p:pic>
          <p:nvPicPr>
            <p:cNvPr id="192" name="TextBox 2" descr=""/>
            <p:cNvPicPr/>
            <p:nvPr/>
          </p:nvPicPr>
          <p:blipFill>
            <a:blip r:embed="rId2"/>
            <a:stretch/>
          </p:blipFill>
          <p:spPr>
            <a:xfrm>
              <a:off x="646200" y="2475000"/>
              <a:ext cx="7711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685800" y="2514600"/>
              <a:ext cx="762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10, 15, 20, 25, 30…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3"/>
          <p:cNvSpPr/>
          <p:nvPr/>
        </p:nvSpPr>
        <p:spPr>
          <a:xfrm>
            <a:off x="304920" y="3657600"/>
            <a:ext cx="8381880" cy="198324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Yes it is an Arithmetic Sequence with +5 as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Common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37160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Is this an arithmetic sequ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TextBox 2"/>
          <p:cNvGrpSpPr/>
          <p:nvPr/>
        </p:nvGrpSpPr>
        <p:grpSpPr>
          <a:xfrm>
            <a:off x="262080" y="2475000"/>
            <a:ext cx="8474040" cy="920520"/>
            <a:chOff x="262080" y="2475000"/>
            <a:chExt cx="8474040" cy="920520"/>
          </a:xfrm>
        </p:grpSpPr>
        <p:pic>
          <p:nvPicPr>
            <p:cNvPr id="197" name="TextBox 2" descr=""/>
            <p:cNvPicPr/>
            <p:nvPr/>
          </p:nvPicPr>
          <p:blipFill>
            <a:blip r:embed="rId2"/>
            <a:stretch/>
          </p:blipFill>
          <p:spPr>
            <a:xfrm>
              <a:off x="262080" y="2475000"/>
              <a:ext cx="84740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04920" y="2514600"/>
              <a:ext cx="8381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2, 9, 17, 29, 37…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3"/>
          <p:cNvSpPr/>
          <p:nvPr/>
        </p:nvSpPr>
        <p:spPr>
          <a:xfrm>
            <a:off x="609480" y="3886200"/>
            <a:ext cx="7620120" cy="2775240"/>
          </a:xfrm>
          <a:prstGeom prst="rect">
            <a:avLst/>
          </a:prstGeom>
          <a:solidFill>
            <a:srgbClr val="ffff00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 it is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NOT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 Arithmetic Sequence because ther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NO Common Difference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381024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the next term in this sequence?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5,  12,  19,  26 , _____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TextBox 2"/>
          <p:cNvGrpSpPr/>
          <p:nvPr/>
        </p:nvGrpSpPr>
        <p:grpSpPr>
          <a:xfrm>
            <a:off x="3309840" y="4834080"/>
            <a:ext cx="2305080" cy="920520"/>
            <a:chOff x="3309840" y="4834080"/>
            <a:chExt cx="2305080" cy="920520"/>
          </a:xfrm>
        </p:grpSpPr>
        <p:pic>
          <p:nvPicPr>
            <p:cNvPr id="202" name="TextBox 2" descr=""/>
            <p:cNvPicPr/>
            <p:nvPr/>
          </p:nvPicPr>
          <p:blipFill>
            <a:blip r:embed="rId2"/>
            <a:stretch/>
          </p:blipFill>
          <p:spPr>
            <a:xfrm>
              <a:off x="3309840" y="4834080"/>
              <a:ext cx="2305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352680" y="4876920"/>
              <a:ext cx="221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3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1691640" y="2743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016440" y="2743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4416840" y="2743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791320" y="2770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+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381024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the next term in this sequence?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5,   -1,   -7,  -13 , _____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TextBox 2"/>
          <p:cNvGrpSpPr/>
          <p:nvPr/>
        </p:nvGrpSpPr>
        <p:grpSpPr>
          <a:xfrm>
            <a:off x="3998880" y="4986360"/>
            <a:ext cx="1463760" cy="920880"/>
            <a:chOff x="3998880" y="4986360"/>
            <a:chExt cx="1463760" cy="920880"/>
          </a:xfrm>
        </p:grpSpPr>
        <p:pic>
          <p:nvPicPr>
            <p:cNvPr id="210" name="TextBox 2" descr=""/>
            <p:cNvPicPr/>
            <p:nvPr/>
          </p:nvPicPr>
          <p:blipFill>
            <a:blip r:embed="rId2"/>
            <a:stretch/>
          </p:blipFill>
          <p:spPr>
            <a:xfrm>
              <a:off x="3998880" y="4986360"/>
              <a:ext cx="14637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038480" y="502920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-1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4"/>
          <p:cNvSpPr/>
          <p:nvPr/>
        </p:nvSpPr>
        <p:spPr>
          <a:xfrm>
            <a:off x="1842840" y="27432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3239640" y="27432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4647960" y="27576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6059160" y="277020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3810240"/>
          </a:xfrm>
          <a:prstGeom prst="rect">
            <a:avLst/>
          </a:prstGeom>
          <a:solidFill>
            <a:srgbClr val="bfbfbf"/>
          </a:solidFill>
          <a:ln w="130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What is the next term in this sequenc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 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100,  75,  50 , 25____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TextBox 2"/>
          <p:cNvGrpSpPr/>
          <p:nvPr/>
        </p:nvGrpSpPr>
        <p:grpSpPr>
          <a:xfrm>
            <a:off x="3693960" y="4834080"/>
            <a:ext cx="854280" cy="920520"/>
            <a:chOff x="3693960" y="4834080"/>
            <a:chExt cx="854280" cy="920520"/>
          </a:xfrm>
        </p:grpSpPr>
        <p:pic>
          <p:nvPicPr>
            <p:cNvPr id="218" name="TextBox 2" descr=""/>
            <p:cNvPicPr/>
            <p:nvPr/>
          </p:nvPicPr>
          <p:blipFill>
            <a:blip r:embed="rId2"/>
            <a:stretch/>
          </p:blipFill>
          <p:spPr>
            <a:xfrm>
              <a:off x="3693960" y="4834080"/>
              <a:ext cx="854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3733920" y="48769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4"/>
          <p:cNvSpPr/>
          <p:nvPr/>
        </p:nvSpPr>
        <p:spPr>
          <a:xfrm>
            <a:off x="2272320" y="27050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3695400" y="26924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5064840" y="26780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6498360" y="270504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27:52Z</dcterms:created>
  <dc:creator>Jennifer and Gene</dc:creator>
  <dc:description/>
  <dc:language>en-US</dc:language>
  <cp:lastModifiedBy>jeff.bouchard</cp:lastModifiedBy>
  <dcterms:modified xsi:type="dcterms:W3CDTF">2011-11-30T18:45:42Z</dcterms:modified>
  <cp:revision>49</cp:revision>
  <dc:subject/>
  <dc:title>Slide 1</dc:title>
</cp:coreProperties>
</file>